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B3E-56A7-4CAB-8977-0F262197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B19-FB7C-4CD3-A8B7-37E943D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7F1-53F7-4220-9FF7-A7FA0841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E15-59DB-49A0-A974-BBE9E4B2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E368-0F49-4EE2-90FC-76DD774A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6740-5416-47F9-BF3F-60DD74B6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3DEC-45F5-4277-8126-72BD3476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89F7-4635-4ADB-A316-524B516D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8535-C1BA-4C79-BD01-BD2FF3ED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4582-CC49-46EF-83D1-83C8219D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48D2-DDFC-466F-B544-2430D046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EEF-763B-4788-BF94-FE990805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B5E3-0440-4B51-A7BC-FC953D3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D7A0-5A65-47FB-8E04-4E502961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5BC6-666D-4080-9D63-6DE92184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EBC7-0501-40B5-8E3A-3A846CA9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27E4-4A60-447B-AAE8-527EEA9C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761A-2B11-4FFB-AD06-221842DB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AC87-8BC2-4516-8829-6AE60B74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C2BB-2389-4A53-B3FD-973CF9AD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0D657-5DED-4BC7-8B3D-1D92AC05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4B09-F67D-4288-9291-5AE75A33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CC9-2017-4D01-8330-286DE076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0AED-DA78-4237-8373-8AC7DF10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3202-ADE5-441A-AEA3-4E0ABCC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F28D-25B9-45BE-83CA-9B2C2E7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F976-B989-4608-A652-4B1956F1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66C4-A251-4141-9E32-836B5EC7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F54A-7C87-4389-A81D-0FE38D1C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F70A-B648-40EA-9295-9C286D07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5948A-8668-4F53-8784-C76A499A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E09EA-FAF8-4127-8D5E-9B4C1802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6C17-535F-420D-B918-79C3217F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13A-A359-4B5B-B790-86F7086D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077C-BA6F-4B76-9E5D-14EFA202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0D9CE-E6C2-4213-ABA6-B71527E5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6C40-B5C0-4EA1-8DAC-EF5BCF01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4648-BD90-45E3-BA06-290F370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DC05-343F-40CB-AF6F-E087343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FD4F-9C47-4A4F-9023-2AA5809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69A3-E3DD-4FDE-84B4-B600F743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BF7F-CCA0-43C3-B940-4C48DBFA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0D43-8371-4F6D-8D77-85201C47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C2695-1611-4A3F-97A3-F22AD4E0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9FF-1207-43F0-8D92-1F9C995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887BF-B1FF-4BCC-8A45-4C72DDE8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ED8AA-43B7-4C7B-A5B3-737F9451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40CE-81EA-4772-8C6E-8E18C59C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CEC69-2E83-445F-ADB7-1F493D9F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FAE66-8C86-4D58-A51D-D2EFB4A5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8885B-8B71-4312-9FFE-BA9BBE98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B6D55-C70C-498B-A03F-717A7E00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4FF53-C1F9-4DF8-9090-73AEF5C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C6E8-D37A-4031-8EFB-52FA871D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0410-2692-411C-8BD9-CCB302CF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32B-EAF7-4DD0-80A1-858DBEEF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E8C7-8DF7-4DBB-8E9E-5598F06A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5108B-400E-44E3-B3D0-158B23AE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B5F3F-2CBC-4B4B-98D9-D05FD54A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4CAA7-CA69-4E5D-A401-08583661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94FCD-A124-448E-A3D1-FBE78D5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1401A-8DE0-4D91-AAD3-C7CBD22E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BA750-83B3-4EF2-BE29-7169250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9CEE8-E539-4A40-8E97-5AFAC137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4A4FA-2D75-4D0A-9791-5F289FEE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41D90-DA72-4550-AFB3-C7D2068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35A-C50E-487E-8BF9-7D41ED2A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66A78-DE32-4813-A987-8A23F37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56B59-1206-43A2-B2B2-5770B6C5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7B83-D0ED-48DE-800C-4F7412C8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5C64-FA24-4EF2-B99D-31B95EE3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EB59-F7AF-4511-A6D2-3D2AD930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BA4B2-EE94-4701-9DA3-CAE7942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5FEED-57AE-4F6A-9D2E-0811BA6F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39357-3F2C-4929-A235-2871BF49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43538-4F56-4CCF-B71D-67E76014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738FF-3AAB-4D7A-ACC3-5467180A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D36-32D2-40AF-8F5C-EA357979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1D377-3D8C-40F4-9651-22168797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9E0EA-F4F1-484E-8234-5BC5A2E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27470-5FD7-4E8C-B25B-8C5773DA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52CDA-CB76-43F3-B78E-9C723D17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DBFDD-E383-4D07-9214-6973E30E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9BDAA-CF0E-4DC5-8251-68A6A3C6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49DA7-6CDB-4D04-8A2E-E69E3C9A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B5D19-498F-4C1B-99BC-5522B67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EB30-24EF-4100-AD9C-9B861035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D061F-24DF-4D0C-BE06-8972EBD0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BA3-4B77-4CCB-98EB-C9195CB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4BB84-1FE2-4161-BA0D-A521F9D0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07433-0343-4FDE-8E64-7E301BF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A2A0-120D-46EF-9A16-034BE677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7CEAE-AA26-4B71-B721-BED2DB9A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DDB10-9664-4E4D-AAA5-C4DEEAAC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9896A-0F45-4F90-AD21-10ACD21A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B83A6-DEB6-48BE-B525-31F1E7A3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24AC-338C-4534-BFB2-732C326C2F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3897-C801-4D73-8262-71DCE5696C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2A50-C615-4BAF-B7A2-5903B5457F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85B9-8A03-49EB-BF60-40198D3A57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2F9-9942-4580-8CBA-21B7963329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3CC2-8342-44C7-B0C1-F03B6EBF26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0E27-3C0D-47F2-B3A7-7B36C09B83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CD08-F214-4F18-8192-F113118584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83822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Мобу « Новочеркасская СОШ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Булдакова Л.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15+2=17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15-2=13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3 · 17 = 51км – расстояние по течению за три час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3· 13 = 39 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68 : 17 = 4 часа по теч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78 : 13 =6 к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) 17-13 = 4км/ча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C:\Users\Любовь_2\Desktop\АВГУСТ - СЕНТЯБРЬ\КАРТИНКИ ПРЕЗ\img13.jpg"/>
          <p:cNvPicPr/>
          <p:nvPr/>
        </p:nvPicPr>
        <p:blipFill>
          <a:blip r:embed="rId2"/>
          <a:stretch/>
        </p:blipFill>
        <p:spPr>
          <a:xfrm>
            <a:off x="6143760" y="38577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рианты у вас на столе – приступайт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Любовь_2\Desktop\АВГУСТ - СЕНТЯБРЬ\КАРТИНКИ ПРЕЗ\sova.jpg"/>
          <p:cNvPicPr/>
          <p:nvPr/>
        </p:nvPicPr>
        <p:blipFill>
          <a:blip r:embed="rId2"/>
          <a:stretch/>
        </p:blipFill>
        <p:spPr>
          <a:xfrm>
            <a:off x="3571920" y="2428920"/>
            <a:ext cx="433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9, 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Любовь_2\Desktop\АВГУСТ - СЕНТЯБРЬ\КАРТИНКИ ПРЕЗ\304610_html_337cb6c1.jpg"/>
          <p:cNvPicPr/>
          <p:nvPr/>
        </p:nvPicPr>
        <p:blipFill>
          <a:blip r:embed="rId2"/>
          <a:stretch/>
        </p:blipFill>
        <p:spPr>
          <a:xfrm>
            <a:off x="5072040" y="1714680"/>
            <a:ext cx="2781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Picture 2" descr="C:\Users\Любовь_2\Desktop\АВГУСТ - СЕНТЯБРЬ\КАРТИНКИ ПРЕЗ\18873_html_509959cc.jpg"/>
          <p:cNvPicPr/>
          <p:nvPr/>
        </p:nvPicPr>
        <p:blipFill>
          <a:blip r:embed="rId2"/>
          <a:stretch/>
        </p:blipFill>
        <p:spPr>
          <a:xfrm>
            <a:off x="500040" y="1143000"/>
            <a:ext cx="8183520" cy="4286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71680" y="1213920"/>
            <a:ext cx="4000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ая соединительная линия 4"/>
          <p:cNvSpPr/>
          <p:nvPr/>
        </p:nvSpPr>
        <p:spPr>
          <a:xfrm>
            <a:off x="1714680" y="2571840"/>
            <a:ext cx="55004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Прямая соединительная линия 7"/>
          <p:cNvSpPr/>
          <p:nvPr/>
        </p:nvSpPr>
        <p:spPr>
          <a:xfrm>
            <a:off x="3500280" y="1643040"/>
            <a:ext cx="4429440" cy="2214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429000" y="1428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3429000" y="1643040"/>
            <a:ext cx="71280" cy="46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7643880" y="34290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779880" y="2500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Прямая соединительная линия 13"/>
          <p:cNvSpPr/>
          <p:nvPr/>
        </p:nvSpPr>
        <p:spPr>
          <a:xfrm>
            <a:off x="2000160" y="3357720"/>
            <a:ext cx="3357720" cy="235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V="1">
            <a:off x="1143000" y="4500360"/>
            <a:ext cx="5357880" cy="1143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Овал 16"/>
          <p:cNvSpPr/>
          <p:nvPr/>
        </p:nvSpPr>
        <p:spPr>
          <a:xfrm flipH="1">
            <a:off x="1999440" y="3357720"/>
            <a:ext cx="7164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2071800" y="29289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18"/>
          <p:cNvSpPr/>
          <p:nvPr/>
        </p:nvSpPr>
        <p:spPr>
          <a:xfrm>
            <a:off x="4919040" y="5143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Овал 19"/>
          <p:cNvSpPr/>
          <p:nvPr/>
        </p:nvSpPr>
        <p:spPr>
          <a:xfrm>
            <a:off x="1214280" y="5643720"/>
            <a:ext cx="4608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0"/>
          <p:cNvSpPr/>
          <p:nvPr/>
        </p:nvSpPr>
        <p:spPr>
          <a:xfrm>
            <a:off x="1143000" y="57150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21"/>
          <p:cNvSpPr/>
          <p:nvPr/>
        </p:nvSpPr>
        <p:spPr>
          <a:xfrm>
            <a:off x="6204600" y="442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2"/>
          <p:cNvSpPr/>
          <p:nvPr/>
        </p:nvSpPr>
        <p:spPr>
          <a:xfrm>
            <a:off x="4214880" y="4714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волка -  у м/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 зайца – х м/ 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&gt; 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10: ( У-Х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4"/>
          <p:cNvSpPr/>
          <p:nvPr/>
        </p:nvSpPr>
        <p:spPr>
          <a:xfrm flipV="1">
            <a:off x="857160" y="3571560"/>
            <a:ext cx="72151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Овал 5"/>
          <p:cNvSpPr/>
          <p:nvPr/>
        </p:nvSpPr>
        <p:spPr>
          <a:xfrm flipH="1" flipV="1">
            <a:off x="811080" y="3642480"/>
            <a:ext cx="46080" cy="7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>
            <a:off x="1000080" y="4285800"/>
            <a:ext cx="135792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0" name="TextBox 8"/>
          <p:cNvSpPr/>
          <p:nvPr/>
        </p:nvSpPr>
        <p:spPr>
          <a:xfrm>
            <a:off x="1357200" y="4000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Овал 9"/>
          <p:cNvSpPr/>
          <p:nvPr/>
        </p:nvSpPr>
        <p:spPr>
          <a:xfrm>
            <a:off x="3929040" y="3643200"/>
            <a:ext cx="4608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2" name="Прямая со стрелкой 11"/>
          <p:cNvCxnSpPr/>
          <p:nvPr/>
        </p:nvCxnSpPr>
        <p:spPr>
          <a:xfrm flipV="1">
            <a:off x="4285800" y="3285360"/>
            <a:ext cx="142956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13"/>
          <p:cNvSpPr/>
          <p:nvPr/>
        </p:nvSpPr>
        <p:spPr>
          <a:xfrm>
            <a:off x="4457160" y="3071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Дуга 14"/>
          <p:cNvSpPr/>
          <p:nvPr/>
        </p:nvSpPr>
        <p:spPr>
          <a:xfrm>
            <a:off x="857160" y="3643200"/>
            <a:ext cx="46080" cy="7164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Дуга 15"/>
          <p:cNvSpPr/>
          <p:nvPr/>
        </p:nvSpPr>
        <p:spPr>
          <a:xfrm>
            <a:off x="857160" y="3714840"/>
            <a:ext cx="71640" cy="46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Круговая стрелка 16"/>
          <p:cNvSpPr/>
          <p:nvPr/>
        </p:nvSpPr>
        <p:spPr>
          <a:xfrm>
            <a:off x="857160" y="3357720"/>
            <a:ext cx="3214800" cy="3571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2286000" y="30002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0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2428920" y="3857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( у – х )м/м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57120" y="1428840"/>
          <a:ext cx="8229600" cy="4690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а+3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а-2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10:10      1200:100      150:10    245000:1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 ·100     82 · 1000  750 ·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топке  35 тетр, а в другой 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раза &gt;, на 15 &gt;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нига стоит 120 руб, альбом в 2 раза дешев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стоит альбо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ить прямую АВ; на отрезке АВ отметить  точку С, через С провести прямую с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рямую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 L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отрезок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ересекающиеся в точке  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остроить пересекающиеся прямые АВ и СД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построить лучи  АК, АМ, А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течения реки -2км/ч, собственная скорость  катера 15 км/час. Составьте выражения и найти их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скорость катера  при движении по вод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тив движения вод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расстояние которое пройдет катер за три часа по течению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асстояние за три часа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время  на прохождение 68км по течению ре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время на прохождение 78 км при движении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на сколько скорость катера по течению больше скорости против т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7:09:18Z</dcterms:created>
  <dc:creator>Любовь</dc:creator>
  <dc:description/>
  <dc:language>en-US</dc:language>
  <cp:lastModifiedBy>Любовь</cp:lastModifiedBy>
  <dcterms:modified xsi:type="dcterms:W3CDTF">2015-09-22T18:40:22Z</dcterms:modified>
  <cp:revision>2</cp:revision>
  <dc:subject/>
  <dc:title>Урок математики в 5классе по теме « Прямая, отрезок и луч»</dc:title>
</cp:coreProperties>
</file>